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media/image12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F35-63AC-4C8C-A59A-9D92A3C7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FDA-5CAB-4912-B7AD-A0413E06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800-56C6-44D1-8E38-4770D088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D87-0097-42A4-81B5-AB44F1FE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ACAB-C6AB-4108-B101-6CAB9393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96EA-F718-4BDD-B7B6-7C663612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353F-5D2E-451D-B9F7-A0A4BACE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BCE2-8678-4716-AC11-46072AEE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2732-9ED9-4457-A9C3-9BF53155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A260-2E94-4B87-89AA-1BE47A03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3DAA-F6BC-4135-81BA-AAFC1687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16B-16E9-445C-B954-292DD8CE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EC7C-1C6F-46BA-A921-098138A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F311-25B8-4F44-8D3F-4DB84B2B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E7FC-1918-43C6-AC02-80650CD8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90B7-694B-42D8-A2C8-98A98116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FBF3-5E65-43F5-B6A5-1850374A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A70-29EE-4B56-9CE4-308237C8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D75-291B-437A-A975-C7E0C605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E50-F6F5-4D6D-A3D5-C25BBB1D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FA3-6FA9-474C-B679-A194E3DC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719-21B7-47D4-BF01-74F76A2E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749-2B45-46F4-A579-031AA5A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1B7-7630-4FDB-8FC3-E84DF28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58A2-FBA1-46FF-BBA0-267588883B2C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6203-D80F-4641-95EB-DE49F456E2AF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be0e3"/>
              </a:buClr>
              <a:buSzPct val="95000"/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be0e3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be0e3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be0e3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be0e3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Dealing &amp; Guiding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iewing Data &amp;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king Adjust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chool having difficulty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Guide the teacher/team through questioning 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Use the support documents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f this is a regular problem, report to Spencer Register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chool constantly making adjustment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o not interrupt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f unable to make a decision, make a summarizing statement of what has been said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alk privately with facilitator and/or principal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acher wanting Accommod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how empathy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xplain that special education is not about accommodations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hare that upon review, many students are not doing any better with accommodations than withou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acher not following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trict guideli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ttempt to gain an understanding of why the district guidelines are not being followed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f there is a reasonable concern, bring the concern to Spencer Register for discussion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f there is not a reasonable concern, attempt to explain the district guidelines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alk with administrator of school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hare with Spencer Register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iscuss options for working with the school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iscuss whether a report needs to be made to a director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on and/or team is not supporting the district guideli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ttempt to gain an understanding of why the district guidelines are not being followed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f there is a reasonable concern, bring the concern to Spencer Register for discussion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f there is not a reasonable concern, attempt to explain the district guidelines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hare with Spencer Register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iscuss options for working with the school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iscuss whether a report needs to be made to a director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rking in Group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066680"/>
          <a:ext cx="7772400" cy="5569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roup On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roup Two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roup Thre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Peter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arri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Donna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Suzann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Natali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Susan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Rob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Jo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arlen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roup Four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roup Fiv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indy K.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ary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Helen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indy W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Spencer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Pat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8682120" y="22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rainstorm Barrie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n your small group discuss and list as many barriers as you can that may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vent a teacher from volunteering for assistance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vent a successful collaborative problem solving process (team related)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ribute to a teacher’s and/or school’s resistance or failure to carry out a recommendation or intervention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48000" y="2057400"/>
            <a:ext cx="4552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fficult, Awkward, and Annoying Team Situa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What are they?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List factors which get in the way of the team’s functioning and effectiveness.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48000" y="2057400"/>
            <a:ext cx="4552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fficult Situa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List situations which you may find difficult to address and would like to discuss.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ample of a Good Mee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t was March before this meeting took place.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o remember to be patient with your school.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48000" y="2057400"/>
            <a:ext cx="4552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ve Fun!!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27280" y="1981080"/>
            <a:ext cx="568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will eventually go away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15 LEAs have gone through training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eneral Education Directors and Special Education Directors have representation on a state steering committee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 state now has a work team that is going to help braid initiative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BM and progress monitoring will be part of the formative assessment training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not manageable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isten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how empathy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sk questions to find out more about the details of what is not manageable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ttempt to guide the teacher if possible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f there is too much frustration, help teacher/team to back up and take things more slowly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sk for assistance from other Support Members if there is a particular area that the teacher needs help with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s school is doing it this way and we are doing it this way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8840"/>
            <a:ext cx="77724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is is a learning process for us all.  Although there are state and district guidelines that everyone must follow, it still may look different at the various schools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ur district is a very diverse district, so it may not be reasonable for everyone to be alike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ach school will need to determine how best to use resources, etc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is is still a learning process for everyone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er expresses frustration because she feels she has already done everyth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601720"/>
            <a:ext cx="77724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how empathy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xplain why what is needed should be done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rimarily Listen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do we use CBM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Assessment tools derived from the curriculum, used in conjunction with a problem-solving model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Possess the necessary specificity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Administered in a short period of time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Sensitive to the small increases in the student’s academic skills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Allows for peer referencing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Used to progress monitor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Bottom line:  It is recommended by the state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are CBMs scored th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y they are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BMs are scored in a manner that is sensitive to improvements of students’ achievement over time.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am not looking at the D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sk about the data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uide the team through questioning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lay dumb (pretend you need to be able to explain if someone ask)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sk “Help me understand the decision?”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8:59:06Z</dcterms:created>
  <dc:creator>Chatham County Schools</dc:creator>
  <dc:description/>
  <dc:language>en-US</dc:language>
  <cp:lastModifiedBy>Chatham County Schools</cp:lastModifiedBy>
  <dcterms:modified xsi:type="dcterms:W3CDTF">2010-06-14T18:38:19Z</dcterms:modified>
  <cp:revision>7</cp:revision>
  <dc:subject/>
  <dc:title>Reactions</dc:title>
</cp:coreProperties>
</file>